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4600-C512-42BF-9CAD-A3FE5C32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3E0-9261-400D-8F1A-5B2F5F26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208-A22C-45E4-96E8-C6D03C37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09AD-9D15-4F1C-9C92-42B5E37A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935C-CA81-4375-A20E-D1E4EF9E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CB07-E6AB-4591-9B0A-AD22F8DF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A992-33FD-4C11-BD61-C2EB75BB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A16F-443E-450A-9F91-26B1F197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845B-AEA0-4182-98FA-7D99D707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5840-555C-44C2-BE88-C5618352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1870-14C5-450D-9A75-F44CDA4D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02FA-132C-48DA-9235-6AB874F3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53F3-B370-46BA-AE78-82140629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9B76-302E-4980-AA76-D76C18DA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EDD4-C752-4450-A9FE-DA7C150D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976F-EA0E-4DDD-8207-CA008C09C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7C4F-160E-49D2-887B-4F4736021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C976-A2E2-4B09-AC17-BA0C8C6A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3A53-0F8C-4E3F-99BE-3C23B5A3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CF6-A4C5-48BA-B4CC-F6D48BFC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866E-C766-4A13-AF7D-6008C330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3DF1-BCD9-44E5-90CD-3311B6D5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41A9-94B1-4BBA-9D11-76124BFD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78B3-D827-4899-B7E0-FB5E822B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BBDB-89DB-43A7-9229-A2BD3B44F7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74A2-0837-4A43-9815-9C0FCD82C9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7273800" cy="16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МИНИСТЕРСТВО СПОРТА РОССИЙСКОЙ ФЕДЕРАЦИИ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ВСЕРОССИЙСКАЯ ФЕДЕРАЦИЯ ЛЕГКОЙ АТЛЕТИКИ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МИНИСТЕРСТВО ФИЗИЧЕСКОЙ КУЛЬТУРЫ И СПОРТА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КРАСНОДАРСКОГО КРАЯ </a:t>
            </a:r>
            <a:br>
              <a:rPr sz="1400"/>
            </a:br>
            <a:r>
              <a:rPr b="1" lang="ru-RU" sz="1400" spc="-1" strike="noStrike">
                <a:solidFill>
                  <a:srgbClr val="330066"/>
                </a:solidFill>
                <a:latin typeface="Times New Roman"/>
              </a:rPr>
              <a:t>ФЕДЕРАЦИЯ ЛЕГКОЙ АТЛЕТИКИ КРАСНОДАРСКОГО КРАЯ  </a:t>
            </a:r>
            <a:br>
              <a:rPr sz="1400"/>
            </a:b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СЕРОССИЙСКИЕ СОРЕВНОВАНИЯ СРЕДИ УОР, СДЮШОР И ДЮСШ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(ЮНИОРЫ И ЮНИОРКИ ДО 20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5-17.05.2013 год.                                  г. Краснодар ст. «КУБА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5438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СЕРОССИЙСКИЕ СОРЕВНОВАНИЯ СРЕДИ УОР, СДЮШОР И ДЮСШ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(ЮНИОРЫ И ЮНИОРКИ ДО 20 ЛЕТ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971720"/>
          <a:ext cx="7931160" cy="3419280"/>
        </p:xfrm>
        <a:graphic>
          <a:graphicData uri="http://schemas.openxmlformats.org/drawingml/2006/table">
            <a:tbl>
              <a:tblPr/>
              <a:tblGrid>
                <a:gridCol w="4156200"/>
                <a:gridCol w="2050920"/>
                <a:gridCol w="1724040"/>
              </a:tblGrid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соревнований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едатель мандатной коми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пак В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. делег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бина Н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итин А.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 соревн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олева Н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енко М.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ошин Л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ицын А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главного судьи по оборудов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тков А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 по информации церемониал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дрявцева В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главного судьи по кадр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О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К 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SONY</cp:lastModifiedBy>
  <cp:lastPrinted>2013-05-16T15:21:02Z</cp:lastPrinted>
  <dcterms:modified xsi:type="dcterms:W3CDTF">2013-05-16T16:28:13Z</dcterms:modified>
  <cp:revision>19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